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.png" ContentType="image/png"/>
  <Override PartName="/ppt/media/image2.png" ContentType="image/png"/>
  <Override PartName="/ppt/media/image14.pct" ContentType="image/x-pict"/>
  <Override PartName="/ppt/media/image3.png" ContentType="image/png"/>
  <Override PartName="/ppt/media/image15.pct" ContentType="image/x-pict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D180C-BE90-44C9-ABA7-F1A7449DD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9A8F5-2340-40D5-8A5F-D331D5918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E00E2-2267-4B36-87BC-506198205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CCBF2-F424-45AD-B8AC-4F98EE497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8C594-F3DE-47AB-AF82-AE93C7673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BBE5E-E63B-4E8C-86B5-FA98AE8DB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3C63D-410E-4843-AA83-8B8A60B69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F8258-6E61-40AF-8337-2ABDD381D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99543-0C54-49C9-9935-514D6D172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B2DCB-9A70-47D1-A2A2-063D2FDD7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C7FA6-C3B7-48A1-80C2-13D362DA5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7286D-2A85-47E3-BCF2-0264FC9CA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A7B7C-49AF-4D66-93FC-F3EF888683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segmentation, page tables, and interrupt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/17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is a kernel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560" y="4723920"/>
            <a:ext cx="830556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de running in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usted program: e.g., sets page-map, U/K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forces modula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219320" y="3276720"/>
            <a:ext cx="6781680" cy="7617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066680" y="2438280"/>
            <a:ext cx="358164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066680" y="1828800"/>
            <a:ext cx="358164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800600" y="2438280"/>
            <a:ext cx="31240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00600" y="1828800"/>
            <a:ext cx="31240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7" name=""/>
          <p:cNvCxnSpPr/>
          <p:nvPr/>
        </p:nvCxnSpPr>
        <p:spPr>
          <a:xfrm>
            <a:off x="457200" y="3123720"/>
            <a:ext cx="8230320" cy="1080"/>
          </a:xfrm>
          <a:prstGeom prst="straightConnector1">
            <a:avLst/>
          </a:prstGeom>
          <a:ln w="28440">
            <a:solidFill>
              <a:srgbClr val="ff0000"/>
            </a:solidFill>
            <a:miter/>
          </a:ln>
        </p:spPr>
      </p:cxnSp>
      <p:sp>
        <p:nvSpPr>
          <p:cNvPr id="148" name=""/>
          <p:cNvSpPr/>
          <p:nvPr/>
        </p:nvSpPr>
        <p:spPr>
          <a:xfrm>
            <a:off x="138240" y="3400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38600" y="21049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ntering the kernel: system call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4724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al instru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itches U/K b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ter kernel at kernel-specified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219320" y="3276720"/>
            <a:ext cx="6781680" cy="7617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066680" y="2438280"/>
            <a:ext cx="358164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1828800"/>
            <a:ext cx="358164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800600" y="2438280"/>
            <a:ext cx="31240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1828800"/>
            <a:ext cx="31240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7" name=""/>
          <p:cNvCxnSpPr/>
          <p:nvPr/>
        </p:nvCxnSpPr>
        <p:spPr>
          <a:xfrm>
            <a:off x="457200" y="3123720"/>
            <a:ext cx="8230320" cy="1080"/>
          </a:xfrm>
          <a:prstGeom prst="straightConnector1">
            <a:avLst/>
          </a:prstGeom>
          <a:ln w="28440">
            <a:solidFill>
              <a:srgbClr val="ff0000"/>
            </a:solidFill>
            <a:miter/>
          </a:ln>
        </p:spPr>
      </p:cxnSp>
      <p:sp>
        <p:nvSpPr>
          <p:cNvPr id="158" name=""/>
          <p:cNvSpPr/>
          <p:nvPr/>
        </p:nvSpPr>
        <p:spPr>
          <a:xfrm>
            <a:off x="127080" y="2362320"/>
            <a:ext cx="787320" cy="1371600"/>
          </a:xfrm>
          <a:custGeom>
            <a:avLst/>
            <a:gdLst/>
            <a:ahLst/>
            <a:rect l="l" t="t" r="r" b="b"/>
            <a:pathLst>
              <a:path w="496" h="864">
                <a:moveTo>
                  <a:pt x="400" y="0"/>
                </a:moveTo>
                <a:cubicBezTo>
                  <a:pt x="200" y="168"/>
                  <a:pt x="0" y="336"/>
                  <a:pt x="16" y="480"/>
                </a:cubicBezTo>
                <a:cubicBezTo>
                  <a:pt x="32" y="624"/>
                  <a:pt x="264" y="744"/>
                  <a:pt x="496" y="86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8153280" y="2590920"/>
            <a:ext cx="774720" cy="1143000"/>
          </a:xfrm>
          <a:custGeom>
            <a:avLst/>
            <a:gdLst/>
            <a:ahLst/>
            <a:rect l="l" t="t" r="r" b="b"/>
            <a:pathLst>
              <a:path w="488" h="720">
                <a:moveTo>
                  <a:pt x="48" y="720"/>
                </a:moveTo>
                <a:cubicBezTo>
                  <a:pt x="268" y="564"/>
                  <a:pt x="488" y="408"/>
                  <a:pt x="480" y="288"/>
                </a:cubicBezTo>
                <a:cubicBezTo>
                  <a:pt x="472" y="168"/>
                  <a:pt x="80" y="48"/>
                  <a:pt x="0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38240" y="1952640"/>
            <a:ext cx="7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8444160" y="347652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r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virtual address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4495680"/>
            <a:ext cx="79246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86 starts in real mode (no prote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 registers (cs, ss, ds, 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 * 16 + offset </a:t>
            </a:r>
            <a:r>
              <a:rPr b="0" lang="en-US" sz="24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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 can switch to protected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ation and pa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1989000"/>
            <a:ext cx="9144000" cy="20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ranslation with segment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80880" y="533376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DGT loads CPU’s G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 bit in CR0 register enables protected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s registers conta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863640" y="1708200"/>
            <a:ext cx="7416720" cy="34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egment descrip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4723920"/>
            <a:ext cx="78487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ear address = logical address + 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ert: logical address &lt; lim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 restricts what memory an application can ref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89948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JOS code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5105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does EIP contain the address of “ljmp” instruction after “movl %eax, %cr0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990720" y="1676520"/>
            <a:ext cx="7086600" cy="29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nforcing modularity in x86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28600" y="3123720"/>
            <a:ext cx="8686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L: current privileg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: privileged (kernel mod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: user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 programs can set segment sel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rnel can load value in CPL and GDT, but user programs cann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533520" y="1905120"/>
            <a:ext cx="7238880" cy="98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two-level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80880" y="541008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size is 4,096 by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,048,576 pages in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level structure to trans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1498680" y="1727280"/>
            <a:ext cx="6146640" cy="34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page table ent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560" y="3428640"/>
            <a:ext cx="84582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: writab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W = 0 and wri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: user mode references allow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U = 0 and user references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: pres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P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8763120" cy="12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does the x86 do exactly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762120" y="1676520"/>
            <a:ext cx="7048440" cy="49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forcing modularity with virtu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rtualize processor and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86 mechanism for virtu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 and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t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stem c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3000" y="36468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en does page table  take effect?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600" y="4190760"/>
            <a:ext cx="861048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G enables page-based trans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3 contains address of page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does the next instruction come fro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hanging PDE or PTE, you must flush TL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oad CR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912080" cy="22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User mode to kernel mo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80880" y="5410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ion: IN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interru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dexes into interrupt descriptor table (ID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TR contains physical address of I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556400" cy="37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IDT descrip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ee ways to get into kerne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asks (tra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(tra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ru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0" y="1371600"/>
            <a:ext cx="9144000" cy="29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8390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happens on trap/interrupt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PU uses vector n to index into I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cks that CPL ≤ D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s ESP and SS in internal regis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ads ESP and SS from T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S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FLA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ear some EFLAGS 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CS and EIP from IDT descrip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rom kernel to us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RET instr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erse of 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Lab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1: start 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up and use seg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2: 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kernel address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3: user/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user address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ID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ヒラギノ角ゴ Pro W3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18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calls and page fa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4: many user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ヒラギノ角ゴ Pro W3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16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emptive schedu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2209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JOS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7848360" y="1981080"/>
            <a:ext cx="609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2057400" y="309600"/>
            <a:ext cx="7086600" cy="654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95400"/>
            <a:ext cx="777240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ecall x86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80520" y="5909760"/>
            <a:ext cx="8458200" cy="5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find P for V OS can walk PT manu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685800" y="914400"/>
            <a:ext cx="7772400" cy="50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33160" y="-28800"/>
            <a:ext cx="83818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VPT: Mapping the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33520" y="5866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-236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|Z maps to the page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|V maps to V’s page table en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228600" y="803160"/>
            <a:ext cx="7772400" cy="507996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3811680" y="14479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rnel enforcing modula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switching processor between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giving each program its own virtual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86 support for enforcing modula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and kernel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t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rupts and tra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560" y="237600"/>
            <a:ext cx="8458200" cy="10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Last lecture’s compu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480" y="5257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ory hold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U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terpret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76520" y="243828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952880" y="182880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191120" y="3276720"/>
            <a:ext cx="761760" cy="144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183280" y="18669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183280" y="240984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202360" y="29289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655240" y="39196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640840" y="34290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640840" y="43434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043720" y="187632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953960" y="143820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Better view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5181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modularity reasons: many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 switches processor(s) between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424160" y="228600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70052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38760" y="3124080"/>
            <a:ext cx="761760" cy="180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171468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930200" y="224640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938120" y="277668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954320" y="38098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954320" y="32986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4320" y="42670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791360" y="172404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70160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roblem: no boundari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5105160"/>
            <a:ext cx="81532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can modify other programs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jumps into other program’s cod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may get into an infinite loo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85680" y="1600200"/>
            <a:ext cx="5397480" cy="1041480"/>
          </a:xfrm>
          <a:prstGeom prst="rect">
            <a:avLst/>
          </a:prstGeom>
          <a:ln w="0">
            <a:noFill/>
          </a:ln>
        </p:spPr>
      </p:pic>
      <p:cxnSp>
        <p:nvCxnSpPr>
          <p:cNvPr id="74" name=""/>
          <p:cNvCxnSpPr/>
          <p:nvPr/>
        </p:nvCxnSpPr>
        <p:spPr>
          <a:xfrm>
            <a:off x="2285640" y="2361960"/>
            <a:ext cx="3158280" cy="648360"/>
          </a:xfrm>
          <a:prstGeom prst="bentConnector3">
            <a:avLst>
              <a:gd name="adj1" fmla="val 4996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5" name=""/>
          <p:cNvSpPr/>
          <p:nvPr/>
        </p:nvSpPr>
        <p:spPr>
          <a:xfrm>
            <a:off x="7774200" y="43434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635600" y="16002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49576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726160" y="171468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725440" y="225756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744520" y="277668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725800" y="373392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725800" y="327672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725800" y="42670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49684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oal: enforcing modularit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 each program its private memory for code, stack, an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vent one program from getting out of its mem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owing sharing between programs when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ce programs to share process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olution approach: virtualiz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0" y="5486040"/>
            <a:ext cx="8763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rtualize memory: virtual address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rtualize processor: preemptive schedu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4406760" cy="8510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7774200" y="48196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35600" y="207648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495760" y="215280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726160" y="219060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716080" y="327672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716080" y="434340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640120" y="365760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640120" y="26668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725800" y="474336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486400" y="3200400"/>
            <a:ext cx="20574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86400" y="4267080"/>
            <a:ext cx="20574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116600" y="1219320"/>
            <a:ext cx="126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22640" y="1066680"/>
            <a:ext cx="1398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183640" y="28400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663800" y="213372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663800" y="325296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107320" y="38098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587840" y="43434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031000" y="4876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47920" y="3581280"/>
            <a:ext cx="17524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26766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80920" y="4800600"/>
            <a:ext cx="264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133640" y="2971800"/>
            <a:ext cx="26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133720" y="4572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age map guides transl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49896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8000"/>
          </a:bodyPr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program has its own page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82240" indent="-108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memory doesn’t have to be contiguo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switching program, switch page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maps stored in main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200400" y="2743200"/>
            <a:ext cx="17524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4038480" y="3733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514600" y="4191120"/>
            <a:ext cx="2971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1523880"/>
            <a:ext cx="4406760" cy="85104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/>
          <p:nvPr/>
        </p:nvCxnSpPr>
        <p:spPr>
          <a:xfrm>
            <a:off x="1960200" y="2209680"/>
            <a:ext cx="1220040" cy="91512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764280" y="4038480"/>
            <a:ext cx="158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-m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248520" y="1752480"/>
            <a:ext cx="2057400" cy="3124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238880" y="4186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781680" y="426096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920280" y="4221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241040" y="4227480"/>
            <a:ext cx="89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xB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038480" y="441972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725520" y="3817800"/>
            <a:ext cx="124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1’s 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" name=""/>
          <p:cNvCxnSpPr/>
          <p:nvPr/>
        </p:nvCxnSpPr>
        <p:spPr>
          <a:xfrm flipV="1">
            <a:off x="4952880" y="2056680"/>
            <a:ext cx="1372320" cy="1105560"/>
          </a:xfrm>
          <a:prstGeom prst="bentConnector3">
            <a:avLst>
              <a:gd name="adj1" fmla="val 49986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057400" y="1293840"/>
            <a:ext cx="4406760" cy="85104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17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rotecting page maps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kernel and user mo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80880" y="4856040"/>
            <a:ext cx="8382240" cy="17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rnel mode: can change page-map register, U/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user mode: cann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or starts in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interrupts, processor switches to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105520" y="2438280"/>
            <a:ext cx="24382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v $val, %cr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6324480" y="34290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6000" y="3886200"/>
            <a:ext cx="2971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/>
          <p:nvPr/>
        </p:nvCxnSpPr>
        <p:spPr>
          <a:xfrm>
            <a:off x="3885840" y="1905120"/>
            <a:ext cx="1220040" cy="91512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7" name=""/>
          <p:cNvSpPr/>
          <p:nvPr/>
        </p:nvSpPr>
        <p:spPr>
          <a:xfrm>
            <a:off x="4896000" y="388620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-map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133720" y="2971800"/>
            <a:ext cx="11430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/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309840" y="3200400"/>
            <a:ext cx="175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3-17T02:09:15Z</dcterms:modified>
  <cp:revision>184</cp:revision>
  <dc:subject/>
  <dc:title>Labs</dc:title>
</cp:coreProperties>
</file>