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8C367-8261-43EF-AA1A-664435EE63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3B785-C2F6-46C7-AAED-7BD806CA98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2B00B-A1D9-4BE0-ADBE-F4E094BFE5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1BB3D-6518-4703-BB22-0F8068EA06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E8578-2FA4-484B-96DB-3DC69ED44C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8870F-F86B-489F-86F7-8893024EA1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726AE-D6E2-4CCE-8216-F832E872B5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ommand cre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12D05-0FD1-48C4-87E7-D19E8DF894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D89CE-DDBA-4718-8208-77C0A5A0F0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966CD-F435-454C-A42A-FC3931FB53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4E026-B826-4808-BF50-52F9BD81C4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D3837-7281-4833-A972-CA57D79F70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its for wh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lose file descrip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EB37-68B0-408F-8244-217563A5F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B7D9-63F8-49EA-8615-0DE51DFC3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63A3-A16E-4F3E-BFFE-EF23EE76B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3FEA-0FE8-4640-B228-87608E8A4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7083-82B8-42C1-9907-02819CB49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3B78-FF7C-46AD-8E9A-B318A9EFB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0C57-A9D0-4DAC-9952-25CC182DF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E5B5-6152-47E2-88CE-337564868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8092-FF2A-48F7-AC8B-5C80F0059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1A2B-3232-4CBD-B77A-6B17CB9AB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7BD0-3AEF-41AE-AF35-691739582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12D5-D7FA-47E1-B013-A6DB8BA18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E1B89-DCAA-448E-BDF5-3D2C4777B9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/25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 and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es (fork &amp; exec &amp; wa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s (open, create, read, write, clo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descriptor (dup, 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(pip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a number of OS ide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ion betwee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on/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our job: implement abstractions and understand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ill you know at the e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OS abstractions in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l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C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 programming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x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e with building system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 complexity, concurrency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e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a code-based OS cla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ng systems can be misleadingly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 simple abstractions, easily understandable in iso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ity is in how their implementations 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by doing, focus on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hardware interrupts interact with kernel and user-level proces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use locks to coordinate different activi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lecture: OS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ustrated by an shell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: sh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command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 (“the shell”) to the operat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shell comma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create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write output to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h &lt; script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sh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ort tmp | uniq | w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process communicate with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i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compute-pi &am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program in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0" y="6095880"/>
            <a:ext cx="92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idea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o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munication, 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ll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“$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command(command, arg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d = fork();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new process;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pid == 0) {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chi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 (command, args, 0);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un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if (pid &gt; 0) {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par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wait (0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wait until child is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ror(“Failed to fork\n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put/Output (I/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 through file descri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descriptor may be for a file, terminal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call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: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: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: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 inherits open file descriptors from 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5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/O redir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“ls &gt; tmp1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 sh to insert before exe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(1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lease f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d = create(“tmp1”, 0666);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fd will b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odifications to “ls”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” could be writing to file, terminal, etc., but programmer of “ls” doesn’t need to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: one-way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(fdarray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turns 2 fd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array[1], “hello”, 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array[0]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 contains ‘h’, ‘e’, ‘l’, ‘l’, ‘o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 between parent &amp; ch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n, pi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pe(fdarra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d = for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(pid &gt; 0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(fdarray[1], "hello", 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read(fdarray[0], buf, sizeof(buf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ynchroniz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parent and ch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blocks until there i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shell implement “a | b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ing shell pip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darray[2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i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darray) &lt; 0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n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"error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(pid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)) == 0) {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hild (lef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1] is the write end, tmp will b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read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fdarray[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1, args1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id &gt; 0) {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parent (righ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0] is the read end, tmp will be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write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2, args2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f ("Unable to fork\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9-03T12:27:11Z</dcterms:modified>
  <cp:revision>69</cp:revision>
  <dc:subject/>
  <dc:title>Labs</dc:title>
</cp:coreProperties>
</file>