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C4F32-D97F-4010-A44B-5FE666471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62278-6029-42A6-9AEE-CB4F75AA43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EEB65-8BCC-49BE-8C97-10A04FF9F1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BFD20-B1F8-48C2-BC30-D5BDD91AFA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43BD1-1197-4497-8E71-20A7424092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A5EB4-BF5A-4271-BD21-176878C515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69BA-F8AA-4A14-88D2-C5C371D70A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ommand crea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44776-BE7B-47D1-9712-3FAAC4682B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3D563-0433-4E14-AD7A-D3ECDC26D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0FB9A-C79B-4C3E-9589-175A122024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BA153-667A-4BC6-9357-282A07E7E6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0980-FB92-447D-A01F-FC85163479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waits for whom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close file descrip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73DC9-6BE5-444B-9952-9B83C7741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B94D-13E3-48F3-9D9E-236DF9E1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F258-FB29-4376-8F66-8AC631A8AE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C9A93-9952-4958-917B-A01FAEC9F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2D00-EAFE-4961-95CB-1D45897E9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B74F-8E93-4F2D-BC4D-5020D1285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FFFE6-AF8F-4A2D-908A-CF2305A46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4DBE1-8B0B-4C35-935B-7FCA5CBA4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E241-5094-4175-B628-044A5A176D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C975B-2671-46F5-9290-717EC8D3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C3D6F-923D-4379-B22A-476C8C3FB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B7F-E080-4C1F-9899-32087F67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F162D-F84A-4FE0-B4F2-BAAFB3C3F1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/25/0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rans Kaasho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aashoek@mit.e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3160" y="60912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S abstractions and ide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cesses (fork &amp; exec &amp; wai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s (open, create, read, write, clos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e descriptor (dup, .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unication (pip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 a number of OS idea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olation between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ordination/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Your job: implement abstractions and understand ide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will you know at the en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derstand OS abstractions in detai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l x8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PC platfo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 programming langu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nix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ence with building system 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andle complexity, concurrency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666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ave fun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3316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y a code-based OS clas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ting systems can be misleadingly sim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ean simple abstractions, easily understandable in iso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lexity is in how their implementations inter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arn by doing, focus on inter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hardware interrupts interact with kernel and user-level process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to use locks to coordinate different activ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lecture: OS abstrac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llustrated by an shell implemen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: shel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active command interpre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face (“the shell”) to the operating syst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 of shell command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create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ls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write output to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h &lt; script &gt; tmp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sh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sort tmp | uniq | w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process communicate with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pi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compute-pi &amp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# run program in backgrou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$ 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4"/>
          <p:cNvSpPr/>
          <p:nvPr/>
        </p:nvSpPr>
        <p:spPr>
          <a:xfrm>
            <a:off x="0" y="6095880"/>
            <a:ext cx="9296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S ideas: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sola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ncurrency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ommunication, synchroniz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hell 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294920"/>
            <a:ext cx="84582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(1)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intf(“$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command(command, arg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d = fork();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new process; </a:t>
            </a:r>
            <a:r>
              <a:rPr b="0" i="1" lang="en-US" sz="2400" spc="-1" strike="noStrike">
                <a:solidFill>
                  <a:srgbClr val="333399"/>
                </a:solidFill>
                <a:latin typeface="Arial"/>
              </a:rPr>
              <a:t>concurr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(pid == 0) {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chil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ec (command, args, 0); 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un comma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if (pid &gt; 0) {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paren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 = wait (0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wait until child is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ror(“Failed to fork\n”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put/Output (I/O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/O through file descript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le descriptor may be for a file, terminal,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 call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ventio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: in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: outp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-415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: err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5200" indent="-475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ild inherits open file descriptors from par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75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2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/O redire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“ls &gt; tmp1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ify sh to insert before exec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ose(1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lease fd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d = create(“tmp1”, 0666);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fd will b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modifications to “ls”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” could be writing to file, terminal, etc., but programmer of “ls” doesn’t need to kn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: one-way communic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 n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ipe(fdarray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// returns 2 fd’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rite(fdarray[1], “hello”, 5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(fdarray[0], buf, sizeof(buf)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f contains ‘h’, ‘e’, ‘l’, ‘l’, ‘o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ipe between parent &amp; ch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fdarray[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ar buf[512]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 n, pi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pe(fdarray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d = fork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f(pid &gt; 0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(fdarray[1], "hello", 5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 els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 = read(fdarray[0], buf, sizeof(buf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ynchronizat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ween parent and ch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d blocks until there is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does the shell implement “a | b”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ing shell pipelin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09480" y="1066320"/>
            <a:ext cx="77724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fdarray[2]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ip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fdarray) &lt; 0)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pani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"error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(pid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fork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)) == 0) {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hild (lef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1] is the write end, tmp will be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read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fdarray[1]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1, args1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 if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pid &gt; 0) { 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parent (right end of pip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mp =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du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fdarray[0] is the read end, tmp will be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0]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lo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fdarray[1]);       </a:t>
            </a:r>
            <a:r>
              <a:rPr b="0" lang="en-US" sz="2000" spc="-1" strike="noStrike">
                <a:solidFill>
                  <a:srgbClr val="333399"/>
                </a:solidFill>
                <a:latin typeface="Arial"/>
              </a:rPr>
              <a:t>// close write 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ec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command2, args2, 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ls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{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f ("Unable to fork\n"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3T13:22:07Z</dcterms:created>
  <dc:creator>Frans Kaashoek</dc:creator>
  <dc:description/>
  <dc:language>en-US</dc:language>
  <cp:lastModifiedBy>Frans Kaashoek</cp:lastModifiedBy>
  <cp:lastPrinted>2008-02-24T00:54:01Z</cp:lastPrinted>
  <dcterms:modified xsi:type="dcterms:W3CDTF">2008-09-03T12:27:11Z</dcterms:modified>
  <cp:revision>69</cp:revision>
  <dc:subject/>
  <dc:title>Labs</dc:title>
</cp:coreProperties>
</file>