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.png" ContentType="image/png"/>
  <Override PartName="/ppt/media/image2.png" ContentType="image/png"/>
  <Override PartName="/ppt/media/image14.pct" ContentType="image/x-pict"/>
  <Override PartName="/ppt/media/image3.png" ContentType="image/png"/>
  <Override PartName="/ppt/media/image15.pct" ContentType="image/x-pict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84F22-2E92-4C38-9E7D-AEE0ACD4D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12305-E701-48E5-B86C-9CB863BD6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F3F0B-3DC6-4BF3-9AB3-39085CF4B8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D6163-2313-44FF-9787-B999859F51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B25C-AF70-4303-9819-56A276622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A659-D2FF-4382-A19F-44FEC5527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41CD7-83BA-4854-A5D7-FABD5290A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88855-CC09-407A-83E0-94304CD1D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5526-1F01-405A-ACF8-819052C8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9AF7-DDC0-4B8B-9BB7-703D0E64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A3F2D-7D8E-433F-A093-2F0A1809C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2C795-55F1-42AF-A522-46A4C25C4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113CED-F35B-444A-9B23-968A718D34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segmentation, page tables, and interrup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17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is a kernel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04560" y="4723920"/>
            <a:ext cx="830556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code running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ed program: e.g., sets page-map, U/K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forces modular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48" name=""/>
          <p:cNvSpPr/>
          <p:nvPr/>
        </p:nvSpPr>
        <p:spPr>
          <a:xfrm>
            <a:off x="138240" y="3400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38600" y="21049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534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tering the kernel: system call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4724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ecial instruc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witches U/K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ter kernel at kernel-specified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19320" y="3276720"/>
            <a:ext cx="6781680" cy="7617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438280"/>
            <a:ext cx="358164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1828800"/>
            <a:ext cx="358164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800600" y="2438280"/>
            <a:ext cx="312408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OS w. Unix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1828800"/>
            <a:ext cx="312408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7" name=""/>
          <p:cNvCxnSpPr/>
          <p:nvPr/>
        </p:nvCxnSpPr>
        <p:spPr>
          <a:xfrm>
            <a:off x="457200" y="3123720"/>
            <a:ext cx="8230320" cy="1080"/>
          </a:xfrm>
          <a:prstGeom prst="straightConnector1">
            <a:avLst/>
          </a:prstGeom>
          <a:ln w="28440">
            <a:solidFill>
              <a:srgbClr val="ff0000"/>
            </a:solidFill>
            <a:miter/>
          </a:ln>
        </p:spPr>
      </p:cxnSp>
      <p:sp>
        <p:nvSpPr>
          <p:cNvPr id="158" name=""/>
          <p:cNvSpPr/>
          <p:nvPr/>
        </p:nvSpPr>
        <p:spPr>
          <a:xfrm>
            <a:off x="127080" y="2362320"/>
            <a:ext cx="787320" cy="1371600"/>
          </a:xfrm>
          <a:custGeom>
            <a:avLst/>
            <a:gdLst/>
            <a:ahLst/>
            <a:rect l="l" t="t" r="r" b="b"/>
            <a:pathLst>
              <a:path w="496" h="864">
                <a:moveTo>
                  <a:pt x="400" y="0"/>
                </a:moveTo>
                <a:cubicBezTo>
                  <a:pt x="200" y="168"/>
                  <a:pt x="0" y="336"/>
                  <a:pt x="16" y="480"/>
                </a:cubicBezTo>
                <a:cubicBezTo>
                  <a:pt x="32" y="624"/>
                  <a:pt x="264" y="744"/>
                  <a:pt x="496" y="864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153280" y="2590920"/>
            <a:ext cx="774720" cy="1143000"/>
          </a:xfrm>
          <a:custGeom>
            <a:avLst/>
            <a:gdLst/>
            <a:ahLst/>
            <a:rect l="l" t="t" r="r" b="b"/>
            <a:pathLst>
              <a:path w="488" h="720">
                <a:moveTo>
                  <a:pt x="48" y="720"/>
                </a:moveTo>
                <a:cubicBezTo>
                  <a:pt x="268" y="564"/>
                  <a:pt x="488" y="408"/>
                  <a:pt x="480" y="288"/>
                </a:cubicBezTo>
                <a:cubicBezTo>
                  <a:pt x="472" y="168"/>
                  <a:pt x="80" y="48"/>
                  <a:pt x="0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8240" y="1952640"/>
            <a:ext cx="75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#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8444160" y="3476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virtual address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4495680"/>
            <a:ext cx="79246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tarts in real mode (no prote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registers (cs, ss, ds, e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 * 16 + offset </a:t>
            </a:r>
            <a:r>
              <a:rPr b="0" lang="en-US" sz="2400" spc="-1" strike="noStrike">
                <a:solidFill>
                  <a:srgbClr val="000000"/>
                </a:solidFill>
                <a:latin typeface="Zapf Dingbats"/>
                <a:ea typeface="Zapf Dingbats"/>
              </a:rPr>
              <a:t>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4400" indent="-2844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can switch to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-2372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ation and pag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16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200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ranslation with segment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80880" y="53337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DGT loads CPU’s G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 bit in CR0 register enables protected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s registers contain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863640" y="1708200"/>
            <a:ext cx="7416720" cy="344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egmen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4723920"/>
            <a:ext cx="784872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ear address = logical address + b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ert: logical address &lt;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 restricts what memory an application can refer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89948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code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5105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does EIP contain the address of “ljmp” instruction after “movl %eax, %cr0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990720" y="1676520"/>
            <a:ext cx="7086600" cy="29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nforcing modularity in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228600" y="3123720"/>
            <a:ext cx="86868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L: current privileg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: privileged (kernel mod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: user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programs can set segment sel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rnel can load value in CPL and GDT, but user programs cann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7238880" cy="98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two-level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8229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size is 4,096 byt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,048,576 pages in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level structure to trans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1498680" y="1727280"/>
            <a:ext cx="6146640" cy="34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page table ent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4560" y="3428640"/>
            <a:ext cx="845820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: writabl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W = 0 and wri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: user mode references allow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U = 0 and user references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: presen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when P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763120" cy="12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does the x86 do exactly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762120" y="1676520"/>
            <a:ext cx="7048440" cy="49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forcing modularity with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irtualize processor and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mechanism for virtualiz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g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3000" y="36468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en does page table  take effect?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28600" y="4190760"/>
            <a:ext cx="861048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G enables page-based transl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3 contains address of page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re does the next instruction come from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hanging PDE or PTE, you must flush TL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oad 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685800" y="1752480"/>
            <a:ext cx="7912080" cy="22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User mode to kernel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880" y="5410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7000"/>
          </a:bodyPr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: INT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,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 interru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indexes into interrupt descriptor table (ID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9680" indent="-229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DTR contains physical address of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556400" cy="372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DT descrip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85800" y="4800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ee ways to get into kern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sks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fault (trap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0" y="1371600"/>
            <a:ext cx="9144000" cy="296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-360" y="228600"/>
            <a:ext cx="883908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What happens on trap/interrupt?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533520" y="12949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 uses vector n to index into ID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ecks that CPL ≤ D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s ESP and SS in internal regis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ads ESP and SS from T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S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FLAG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C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ush user E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ear some EFLAGS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t CS and EIP from IDT descrip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kernel to us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ET instr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erse of 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b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1: start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up and use seg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2: 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kernel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3: user/kern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user address sp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up ID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8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alls and page fa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b 4: many user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ヒラギノ角ゴ Pro W3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16_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emptive schedu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2209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JOS 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848360" y="1981080"/>
            <a:ext cx="60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057400" y="309600"/>
            <a:ext cx="70866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95400"/>
            <a:ext cx="7772400" cy="104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call x86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80520" y="5909760"/>
            <a:ext cx="8458200" cy="5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find P for V OS can walk PT manual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685800" y="914400"/>
            <a:ext cx="7772400" cy="50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533160" y="-28800"/>
            <a:ext cx="838188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VPT: Mapping the page tab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533520" y="586692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Z maps to the page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36520" indent="-236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Z|V maps to V’s page table ent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228600" y="803160"/>
            <a:ext cx="7772400" cy="507996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3811680" y="1447920"/>
            <a:ext cx="36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switching processor between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giving each program its own virtual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86 support for enforcing modular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g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and kernel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 tab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rupts and tra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4560" y="237600"/>
            <a:ext cx="8458200" cy="1057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Last lecture’s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76520" y="243828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952880" y="1828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191120" y="3276720"/>
            <a:ext cx="761760" cy="14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183280" y="1866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5183280" y="240984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202360" y="29289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655240" y="3919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640840" y="34290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640840" y="434340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043720" y="187632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953960" y="143820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Better view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440" y="518112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r modularity reasons: many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S switches processor(s) between progra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42416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1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7005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938760" y="3124080"/>
            <a:ext cx="76176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3092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930200" y="2246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9381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954320" y="3809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954320" y="32986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432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7913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7016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blem: no boundari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5105160"/>
            <a:ext cx="815328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can modify other programs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jumps into other program’s cod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 program may get into an infinite loop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8568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74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7774200" y="43434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635600" y="16002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49576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726160" y="171468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5725440" y="225756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744520" y="277668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725800" y="37339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5800" y="327672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725800" y="42670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549684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oal: enforcing modularit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ive each program its private memory for code, stack, and 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vent one program from getting out of its mem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owing sharing between programs when nee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ce programs to share process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olution approach: virtualiz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5486040"/>
            <a:ext cx="876312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memory: virtual addres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rtualize processor: preemptive schedu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7774200" y="481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7648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495760" y="215280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726160" y="2190600"/>
            <a:ext cx="151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716080" y="327672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716080" y="4343400"/>
            <a:ext cx="160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gram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640120" y="365760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640120" y="266688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725800" y="4743360"/>
            <a:ext cx="172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for P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486400" y="320040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86400" y="4267080"/>
            <a:ext cx="2057400" cy="0"/>
          </a:xfrm>
          <a:prstGeom prst="line">
            <a:avLst/>
          </a:prstGeom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116600" y="1219320"/>
            <a:ext cx="126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622640" y="1066680"/>
            <a:ext cx="139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83640" y="284004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663800" y="213372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63800" y="325296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107320" y="38098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587840" y="4343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031000" y="48769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358128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26766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880920" y="4800600"/>
            <a:ext cx="264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133640" y="2971800"/>
            <a:ext cx="26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133720" y="4572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age map guides transl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498960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8000"/>
          </a:bodyPr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program has its own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282240" indent="-1083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memory doesn’t have to be contiguo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switching program, switch page ma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30320" indent="-130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ge maps stored in main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200400" y="2743200"/>
            <a:ext cx="17524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M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038480" y="373392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514600" y="419112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0" y="1523880"/>
            <a:ext cx="4406760" cy="85104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/>
          <p:nvPr/>
        </p:nvCxnSpPr>
        <p:spPr>
          <a:xfrm>
            <a:off x="1960200" y="220968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764280" y="4038480"/>
            <a:ext cx="1585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6248520" y="1752480"/>
            <a:ext cx="2057400" cy="31244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238880" y="41860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781680" y="426096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920280" y="42210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241040" y="4227480"/>
            <a:ext cx="89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xB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038480" y="441972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725520" y="3817800"/>
            <a:ext cx="124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1’s 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"/>
          <p:cNvCxnSpPr/>
          <p:nvPr/>
        </p:nvCxnSpPr>
        <p:spPr>
          <a:xfrm flipV="1">
            <a:off x="4952880" y="2056680"/>
            <a:ext cx="1372320" cy="1105560"/>
          </a:xfrm>
          <a:prstGeom prst="bentConnector3">
            <a:avLst>
              <a:gd name="adj1" fmla="val 49986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2057400" y="1293840"/>
            <a:ext cx="4406760" cy="85104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175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rotecting page maps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kernel and user mo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80880" y="4856040"/>
            <a:ext cx="8382240" cy="177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rnel mode: can change page-map register, U/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user mode: canno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or starts in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 interrupts, processor switches to kernel mo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105520" y="2438280"/>
            <a:ext cx="2438280" cy="990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v $val, %cr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6324480" y="342900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896000" y="3886200"/>
            <a:ext cx="29718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"/>
          <p:cNvCxnSpPr/>
          <p:nvPr/>
        </p:nvCxnSpPr>
        <p:spPr>
          <a:xfrm>
            <a:off x="3885840" y="1905120"/>
            <a:ext cx="1220040" cy="915120"/>
          </a:xfrm>
          <a:prstGeom prst="bentConnector3">
            <a:avLst>
              <a:gd name="adj1" fmla="val 5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4896000" y="3886200"/>
            <a:ext cx="281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ge-map regis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971800"/>
            <a:ext cx="114300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/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309840" y="3200400"/>
            <a:ext cx="175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17T02:09:15Z</dcterms:modified>
  <cp:revision>184</cp:revision>
  <dc:subject/>
  <dc:title>Labs</dc:title>
</cp:coreProperties>
</file>