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ct" ContentType="image/x-pict"/>
  <Override PartName="/ppt/media/image4.png" ContentType="image/png"/>
  <Override PartName="/ppt/media/image2.pct" ContentType="image/x-pict"/>
  <Override PartName="/ppt/media/image5.png" ContentType="image/png"/>
  <Override PartName="/ppt/media/image10.png" ContentType="image/png"/>
  <Override PartName="/ppt/media/image3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10630-C5A9-4FDB-9B5D-F49207A01B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 ideas: data can be instructions, stack, hardware == softw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PU, address and data signals, memory, disk, keyboard, display, BIOS ROM, clock, 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9FA22-DD7C-44AA-A07B-9533AE690F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9AC8-D3FE-470A-B947-0E2330371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2DC10-47A8-4D0F-8172-0F5E98EAF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369D-6387-4916-BA46-E7DC63135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768A-A226-4E9C-B841-4B8348084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8D6B-37C4-4714-BF75-AA05206D9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5542-79F6-4D3A-9FBC-60E2813B6A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52D18-6E99-469E-9121-47F6419D7F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79E1-FEC0-421A-93AD-D75BED6A9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80D77-F5D9-41FD-B5E0-EEA436647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4B26-6384-480A-87AA-CF35C2434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D94A-EDD8-4918-90BB-93A623F16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31A57-82D3-41B0-B3C2-5C1F8F66D7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ct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hardware and x86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/3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: more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80520" y="5105160"/>
            <a:ext cx="8153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 instructions: MOV, PUSH, POP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 instructions can take a memory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218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tack memory + opera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52578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 grows dow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to implement procedure ca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371600" y="1752480"/>
            <a:ext cx="622296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 16 registers and 20-bit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xtra 4 bits com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egment regis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S: code segment, for EI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S: stack segment, for SP and 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S: data segment for load/store via other regis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S: another data segment, destination for string 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: CS=4096 to start executing at 655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kes life more complic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nnot use 16 bit address of stack variable as poin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inter arithmetic and array indexing across segment bound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far pointer programmer must include segment re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nd more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: 32 bit data and bus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: the transition to 64 bit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ackwards compatibil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oots in 16-bit mode, and boot.S switches to 32-bit m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efix 0x66 gets you 32 bit mo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VW = 0x66 MOV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ode32 in boot.S tells assembler to insert 0x6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386 also added virtual memory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pic of lab lectur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I/O space and instruc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4920" y="58672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086: Only 1024 I/O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ts in lab 3 lec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380880" y="1133640"/>
            <a:ext cx="7391520" cy="47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-mapped I/O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 normal addr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need for special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1024 lim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controller routes to de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orks like “magic”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dressed and accessed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does not behave like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s and writes have “side effec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result can change due to external ev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Memory layou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967040" y="933480"/>
            <a:ext cx="5816520" cy="58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nstruction se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structions class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movement: MOV, PUSH, POP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ithmetic: TEST, SHL, ADD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/O: IN, OU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: JMP, JZ, JNZ, CALL, RE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ing: REP, MOVSB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: IRET, INT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l architecture manual Volume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l syntax: op dst, sr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&amp;T (gcc/gas) syntax: op src, d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3045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procedure calling convention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CALL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points to first instru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+ 4 points at first argu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fter RET instruc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ip contains return addr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sp points at arguments pushed by call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ax contains return value, %ecx, %edx may be trash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%ebp, %ebx, %esi, %edi must be as before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486400" y="2971800"/>
            <a:ext cx="2362320" cy="1219320"/>
          </a:xfrm>
          <a:prstGeom prst="wedgeRectCallout">
            <a:avLst>
              <a:gd name="adj1" fmla="val -243009"/>
              <a:gd name="adj2" fmla="val 10156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343400" y="5791320"/>
            <a:ext cx="2133720" cy="1066680"/>
          </a:xfrm>
          <a:prstGeom prst="wedgeRectCallout">
            <a:avLst>
              <a:gd name="adj1" fmla="val -209745"/>
              <a:gd name="adj2" fmla="val -6964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alle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sa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gcc does more: EBP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61920" y="1295280"/>
            <a:ext cx="9082080" cy="4330800"/>
          </a:xfrm>
          <a:prstGeom prst="rect">
            <a:avLst/>
          </a:prstGeom>
          <a:ln w="0">
            <a:noFill/>
          </a:ln>
        </p:spPr>
      </p:pic>
      <p:grpSp>
        <p:nvGrpSpPr>
          <p:cNvPr id="123" name=""/>
          <p:cNvGrpSpPr/>
          <p:nvPr/>
        </p:nvGrpSpPr>
        <p:grpSpPr>
          <a:xfrm>
            <a:off x="3429000" y="990720"/>
            <a:ext cx="2743200" cy="1209240"/>
            <a:chOff x="3429000" y="990720"/>
            <a:chExt cx="2743200" cy="1209240"/>
          </a:xfrm>
        </p:grpSpPr>
        <p:sp>
          <p:nvSpPr>
            <p:cNvPr id="124" name=""/>
            <p:cNvSpPr/>
            <p:nvPr/>
          </p:nvSpPr>
          <p:spPr>
            <a:xfrm>
              <a:off x="3429000" y="990720"/>
              <a:ext cx="2743200" cy="1209240"/>
            </a:xfrm>
            <a:prstGeom prst="wedgeRectCallout">
              <a:avLst>
                <a:gd name="adj1" fmla="val -41837"/>
                <a:gd name="adj2" fmla="val 153958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3430800" y="99072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ro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ush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sp,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419720" y="3581280"/>
            <a:ext cx="2971800" cy="1371240"/>
            <a:chOff x="4419720" y="3581280"/>
            <a:chExt cx="2971800" cy="1371240"/>
          </a:xfrm>
        </p:grpSpPr>
        <p:sp>
          <p:nvSpPr>
            <p:cNvPr id="127" name=""/>
            <p:cNvSpPr/>
            <p:nvPr/>
          </p:nvSpPr>
          <p:spPr>
            <a:xfrm>
              <a:off x="4419720" y="3581280"/>
              <a:ext cx="2971800" cy="1371240"/>
            </a:xfrm>
            <a:prstGeom prst="wedgeRectCallout">
              <a:avLst>
                <a:gd name="adj1" fmla="val -75425"/>
                <a:gd name="adj2" fmla="val -59777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497480" y="3686760"/>
              <a:ext cx="2620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Epilogue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ovl %ebp, %es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popl %ebp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974880" y="61437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2120" y="5867280"/>
            <a:ext cx="731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ved %ebp’s form a chain, can walk st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guments and locals at fixed offsets from EB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A PC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2286000" y="1219320"/>
            <a:ext cx="4267080" cy="416700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600200" y="594360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make it to do something usefu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3353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940280" y="0"/>
            <a:ext cx="420372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2"/>
          <a:stretch/>
        </p:blipFill>
        <p:spPr>
          <a:xfrm>
            <a:off x="0" y="2666880"/>
            <a:ext cx="5029200" cy="133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From C to running program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04920" y="54097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iler, assembler, linker, and loa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962520" y="160020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163044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968480" y="1625760"/>
            <a:ext cx="914400" cy="129528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a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286000"/>
            <a:ext cx="9903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895480" y="2286000"/>
            <a:ext cx="99072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205280" y="1724040"/>
            <a:ext cx="65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c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110760" y="1724040"/>
            <a:ext cx="671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"/>
          <p:cNvGrpSpPr/>
          <p:nvPr/>
        </p:nvGrpSpPr>
        <p:grpSpPr>
          <a:xfrm>
            <a:off x="0" y="3352680"/>
            <a:ext cx="4876560" cy="1325520"/>
            <a:chOff x="0" y="3352680"/>
            <a:chExt cx="4876560" cy="1325520"/>
          </a:xfrm>
        </p:grpSpPr>
        <p:sp>
          <p:nvSpPr>
            <p:cNvPr id="144" name=""/>
            <p:cNvSpPr/>
            <p:nvPr/>
          </p:nvSpPr>
          <p:spPr>
            <a:xfrm>
              <a:off x="3962160" y="3352680"/>
              <a:ext cx="914400" cy="129528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0" y="338256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1968480" y="3377880"/>
              <a:ext cx="914400" cy="1295640"/>
            </a:xfrm>
            <a:prstGeom prst="verticalScroll">
              <a:avLst>
                <a:gd name="adj" fmla="val 125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.asm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99036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895480" y="4038480"/>
              <a:ext cx="990720" cy="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204920" y="3476520"/>
              <a:ext cx="65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c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0400" y="3476520"/>
              <a:ext cx="671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a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5765760" y="2438280"/>
            <a:ext cx="914400" cy="1295640"/>
          </a:xfrm>
          <a:prstGeom prst="verticalScroll">
            <a:avLst>
              <a:gd name="adj" fmla="val 1250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952880" y="2362320"/>
            <a:ext cx="685800" cy="53316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952880" y="3428640"/>
            <a:ext cx="68580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5335920" y="2971800"/>
            <a:ext cx="41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705720" y="3048120"/>
            <a:ext cx="10666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708240" y="2514600"/>
            <a:ext cx="102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a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860600" y="2819520"/>
            <a:ext cx="1282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8763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Development using PC emulato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4191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chs PC emul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 what a real PC do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implemented in software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uns like a normal program on “host” operating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181480" y="3809880"/>
            <a:ext cx="34290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 emul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181480" y="457200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nu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181480" y="5334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181480" y="3048120"/>
            <a:ext cx="34290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4699080" cy="2984400"/>
          </a:xfrm>
          <a:prstGeom prst="rect">
            <a:avLst/>
          </a:prstGeom>
          <a:ln w="0">
            <a:noFill/>
          </a:ln>
        </p:spPr>
      </p:pic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1600200" y="4952880"/>
            <a:ext cx="544824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of CPU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1752480"/>
            <a:ext cx="8686800" cy="474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3352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on x86 memo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534520" cy="38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mulating devices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rd disk: using a file of the ho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GA display: draw in a host wind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eyboard: hosts’s keyboard AP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ock chip: host’s cloc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Summary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lab: PC and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llustrate several big idea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ored program compu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-mapped I/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ftware = hardw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Outlin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4648320" cy="274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86 instruction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cc calling conven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C emul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5257800" y="2743200"/>
            <a:ext cx="3429000" cy="2133720"/>
          </a:xfrm>
          <a:prstGeom prst="leftArrowCallout">
            <a:avLst>
              <a:gd name="adj1" fmla="val 25002"/>
              <a:gd name="adj2" fmla="val 25000"/>
              <a:gd name="adj3" fmla="val 26784"/>
              <a:gd name="adj4" fmla="val 6667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llustrate a few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CS ide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PC board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838080" y="1303200"/>
            <a:ext cx="7391520" cy="55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von Neumann model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4724280"/>
            <a:ext cx="792504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: communicating data to and from devi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PU: digital logic for performing compu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ory: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ords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bi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05320" y="2133720"/>
            <a:ext cx="2057400" cy="16002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ss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2362320"/>
            <a:ext cx="1904760" cy="12189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put/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324480" y="2133720"/>
            <a:ext cx="2057400" cy="1600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562720" y="289548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666880" y="2971800"/>
            <a:ext cx="7621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09480" y="237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The stored program compu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5257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mory holds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structio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PU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interpre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of instru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2286000"/>
            <a:ext cx="2514600" cy="1676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(;;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xt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733920" y="1676520"/>
            <a:ext cx="2057400" cy="31240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971800" y="3124080"/>
            <a:ext cx="762120" cy="18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964320" y="1714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964320" y="225756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983400" y="2776680"/>
            <a:ext cx="156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35920" y="376704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431240" y="33526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421520" y="419112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24760" y="1724040"/>
            <a:ext cx="82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P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735000" y="1285920"/>
            <a:ext cx="2027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n mem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x86 implementation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0" y="533376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is incremented after each instr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are different leng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IP modified by CALL, RET, JMP, and conditional J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5519880" y="2104920"/>
            <a:ext cx="2057400" cy="3124440"/>
            <a:chOff x="5519880" y="2104920"/>
            <a:chExt cx="2057400" cy="3124440"/>
          </a:xfrm>
        </p:grpSpPr>
        <p:sp>
          <p:nvSpPr>
            <p:cNvPr id="81" name=""/>
            <p:cNvSpPr/>
            <p:nvPr/>
          </p:nvSpPr>
          <p:spPr>
            <a:xfrm>
              <a:off x="5519880" y="2104920"/>
              <a:ext cx="2057400" cy="31244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750280" y="2143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50280" y="268596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769360" y="3205080"/>
              <a:ext cx="1569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instructio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6221880" y="41958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217200" y="378144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207480" y="461952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0" y="1600200"/>
            <a:ext cx="5397480" cy="1041480"/>
          </a:xfrm>
          <a:prstGeom prst="rect">
            <a:avLst/>
          </a:prstGeom>
          <a:ln w="0">
            <a:noFill/>
          </a:ln>
        </p:spPr>
      </p:pic>
      <p:cxnSp>
        <p:nvCxnSpPr>
          <p:cNvPr id="89" name=""/>
          <p:cNvCxnSpPr/>
          <p:nvPr/>
        </p:nvCxnSpPr>
        <p:spPr>
          <a:xfrm>
            <a:off x="2285640" y="2361960"/>
            <a:ext cx="3158280" cy="648360"/>
          </a:xfrm>
          <a:prstGeom prst="bentConnector3">
            <a:avLst>
              <a:gd name="adj1" fmla="val 4996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0" name=""/>
          <p:cNvSpPr/>
          <p:nvPr/>
        </p:nvSpPr>
        <p:spPr>
          <a:xfrm>
            <a:off x="7698240" y="47242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635600" y="2057400"/>
            <a:ext cx="8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Registers for work space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4876920"/>
            <a:ext cx="86104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16, and 32 bit vers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y convention some registers for special purpo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ADD EAX,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instructions: SUB, AND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04920" y="838080"/>
            <a:ext cx="8026200" cy="398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EFLAGS register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09480" y="5866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st instructions: TEST EAX, 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itional JMP instructions: JNZ addr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314360" y="1104840"/>
            <a:ext cx="651528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3-03T03:10:17Z</dcterms:modified>
  <cp:revision>112</cp:revision>
  <dc:subject/>
  <dc:title>Labs</dc:title>
</cp:coreProperties>
</file>