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ct" ContentType="image/x-pict"/>
  <Override PartName="/ppt/media/image4.png" ContentType="image/png"/>
  <Override PartName="/ppt/media/image2.pct" ContentType="image/x-pict"/>
  <Override PartName="/ppt/media/image5.png" ContentType="image/png"/>
  <Override PartName="/ppt/media/image10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378C1-4308-45DC-999E-10C3706C2E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ideas: data can be instructions, stack, hardware ==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, address and data signals, memory, disk, keyboard, display, BIOS ROM, clock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A145-098C-428F-98C7-25B4D8C84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268F-C4E7-4264-9260-9D6E2AD1E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C5FC-5DA0-4521-92F9-EE6072BE1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4AAE-305D-47A0-8125-2156F21D2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9017-05E1-42C8-AF7B-F2ED45BC6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FF77-082F-4434-A009-892E53868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4248-0B92-4D85-8679-C262D3030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6563-565D-475F-BD6A-025284880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72A7-C1E6-4AF5-99B2-3ED343B1D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0BF9-FBC2-4913-AB49-54409F1CD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6EFE-A57A-409F-808B-D1DE01725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D670-4637-4631-9813-1EC3656E7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5DD42-78A8-4501-B7ED-EB0C31986D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hardware and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3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: more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51051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 instructions: MOV, PUSH, POP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instructions can take a memory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tack memory + opera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 grows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o implement procedure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222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 16 registers and 20-bit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tra 4 bits com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gment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: code segment, for E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: stack segment, for SP and 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: data segment for load/store via othe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: another data segment, destination for string 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 CS=4096 to start executing at 655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s life more complic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use 16 bit address of stack variable as po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er arithmetic and array indexing across segment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far pointer programmer must include segment r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nd 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: 32 bit data and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: the transition to 64 bit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wards compatibil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ts in 16-bit mode, and boot.S switches to 32-bit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fix 0x66 gets you 32 bit m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W = 0x66 MOV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ode32 in boot.S tells assembler to insert 0x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 also added virtual memory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of lab lectur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/O space and instruc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5867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: Only 1024 I/O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rupts in lab 3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0880" y="1133640"/>
            <a:ext cx="739152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-mapped I/O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normal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ed for special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1024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ontroller routes to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 like “magic”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ed and accessed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oes not behave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s and writes have “side effec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result can change due to extern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 layou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67040" y="933480"/>
            <a:ext cx="581652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nstruction se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s clas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movement: MOV, PUSH, POP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: TEST, SHL, ADD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/O: IN, OU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: JMP, JZ, JNZ, CALL, 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: REP, MOVSB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: IRET, IN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l architecture manual Volum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syntax: op dst, s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&amp;T (gcc/gas) syntax: op src,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procedure calling conven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CALL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points to first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+ 4 points at first arg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RET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contains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arguments pushed by ca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ax contains return value, %ecx, %edx may be tra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bp, %ebx, %esi, %edi must be as before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2971800"/>
            <a:ext cx="2362320" cy="1219320"/>
          </a:xfrm>
          <a:prstGeom prst="wedgeRectCallout">
            <a:avLst>
              <a:gd name="adj1" fmla="val -243009"/>
              <a:gd name="adj2" fmla="val 1015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43400" y="5791320"/>
            <a:ext cx="2133720" cy="1066680"/>
          </a:xfrm>
          <a:prstGeom prst="wedgeRectCallout">
            <a:avLst>
              <a:gd name="adj1" fmla="val -209745"/>
              <a:gd name="adj2" fmla="val -696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does more: EBP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920" y="1295280"/>
            <a:ext cx="9082080" cy="433080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3429000" y="990720"/>
            <a:ext cx="2743200" cy="1209240"/>
            <a:chOff x="3429000" y="990720"/>
            <a:chExt cx="2743200" cy="1209240"/>
          </a:xfrm>
        </p:grpSpPr>
        <p:sp>
          <p:nvSpPr>
            <p:cNvPr id="124" name=""/>
            <p:cNvSpPr/>
            <p:nvPr/>
          </p:nvSpPr>
          <p:spPr>
            <a:xfrm>
              <a:off x="3429000" y="990720"/>
              <a:ext cx="2743200" cy="1209240"/>
            </a:xfrm>
            <a:prstGeom prst="wedgeRectCallout">
              <a:avLst>
                <a:gd name="adj1" fmla="val -41837"/>
                <a:gd name="adj2" fmla="val 15395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30800" y="99072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ro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ush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sp,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419720" y="3581280"/>
            <a:ext cx="2971800" cy="1371240"/>
            <a:chOff x="4419720" y="3581280"/>
            <a:chExt cx="2971800" cy="1371240"/>
          </a:xfrm>
        </p:grpSpPr>
        <p:sp>
          <p:nvSpPr>
            <p:cNvPr id="127" name=""/>
            <p:cNvSpPr/>
            <p:nvPr/>
          </p:nvSpPr>
          <p:spPr>
            <a:xfrm>
              <a:off x="4419720" y="3581280"/>
              <a:ext cx="2971800" cy="1371240"/>
            </a:xfrm>
            <a:prstGeom prst="wedgeRectCallout">
              <a:avLst>
                <a:gd name="adj1" fmla="val -75425"/>
                <a:gd name="adj2" fmla="val -5977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97480" y="368676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Epi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bp, %es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op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974880" y="6143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5867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d %ebp’s form a chain, can walk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guments and locals at fixed offsets from E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 PC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4267080" cy="4167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600200" y="59436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make it to do something usefu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335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940280" y="0"/>
            <a:ext cx="420372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2666880"/>
            <a:ext cx="502920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C to running program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5409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iler, assembler, linker, and lo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160020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63044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68480" y="162576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228600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95480" y="228600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05280" y="17240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10760" y="17240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0" y="3352680"/>
            <a:ext cx="4876560" cy="1325520"/>
            <a:chOff x="0" y="3352680"/>
            <a:chExt cx="4876560" cy="1325520"/>
          </a:xfrm>
        </p:grpSpPr>
        <p:sp>
          <p:nvSpPr>
            <p:cNvPr id="144" name=""/>
            <p:cNvSpPr/>
            <p:nvPr/>
          </p:nvSpPr>
          <p:spPr>
            <a:xfrm>
              <a:off x="3962160" y="3352680"/>
              <a:ext cx="914400" cy="129528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338256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68480" y="337788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as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9036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9548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04920" y="347652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c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10400" y="347652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5765760" y="2438280"/>
            <a:ext cx="914400" cy="1295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52880" y="2362320"/>
            <a:ext cx="685800" cy="533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952880" y="3428640"/>
            <a:ext cx="68580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5920" y="297180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705720" y="304812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08240" y="251460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860600" y="281952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evelopment using PC emula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chs PC emul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what a real PC d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implemented in softwa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s like a normal program on “host” operat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81480" y="3809880"/>
            <a:ext cx="34290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 e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181480" y="457200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81480" y="5334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3048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4699080" cy="29844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600200" y="4952880"/>
            <a:ext cx="54482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CPU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68680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x86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53452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ng devic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disk: using a file of the h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GA display: draw in a host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board: hosts’s keyboard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ck chip: host’s c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lab: PC and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lustrate several big id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d program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-mapped I/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= 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4648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instruction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cc calling con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e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2743200"/>
            <a:ext cx="3429000" cy="2133720"/>
          </a:xfrm>
          <a:prstGeom prst="leftArrowCallout">
            <a:avLst>
              <a:gd name="adj1" fmla="val 25002"/>
              <a:gd name="adj2" fmla="val 25000"/>
              <a:gd name="adj3" fmla="val 26784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ustrate a f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CS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boar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1303200"/>
            <a:ext cx="7391520" cy="55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von Neumann mode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4724280"/>
            <a:ext cx="79250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: communicating data to and from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: digital logic for performing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ord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2133720"/>
            <a:ext cx="2057400" cy="1600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362320"/>
            <a:ext cx="190476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/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24480" y="2133720"/>
            <a:ext cx="20574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62720" y="289548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297180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stored program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71800" y="3124080"/>
            <a:ext cx="76212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64320" y="1714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64320" y="22575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83400" y="2776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35920" y="37670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31240" y="3352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21520" y="41911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47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350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mplement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53337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is incremented after each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s are different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modified by CALL, RET, JMP, and conditional J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5519880" y="2104920"/>
            <a:ext cx="2057400" cy="3124440"/>
            <a:chOff x="5519880" y="2104920"/>
            <a:chExt cx="2057400" cy="3124440"/>
          </a:xfrm>
        </p:grpSpPr>
        <p:sp>
          <p:nvSpPr>
            <p:cNvPr id="81" name=""/>
            <p:cNvSpPr/>
            <p:nvPr/>
          </p:nvSpPr>
          <p:spPr>
            <a:xfrm>
              <a:off x="5519880" y="2104920"/>
              <a:ext cx="2057400" cy="3124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750280" y="2143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50280" y="268596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69360" y="3205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21880" y="41958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217200" y="37814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207480" y="46195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89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7698240" y="4724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57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gisters for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4876920"/>
            <a:ext cx="8610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16, and 32 bit ver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onvention some registers for special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ADD EAX,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instructions: SUB, AND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026200" cy="39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FLAGS regis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5866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instructions: TEST EAX,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al JMP instructions: JNZ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314360" y="1104840"/>
            <a:ext cx="6515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03T03:10:17Z</dcterms:modified>
  <cp:revision>112</cp:revision>
  <dc:subject/>
  <dc:title>Labs</dc:title>
</cp:coreProperties>
</file>