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45EF5-1302-427B-A5AF-F6FDBEB2AA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9DFD4-0792-4B31-AF02-B0E0A01043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8F8E7-DF84-4F71-90C4-AB7D42CB50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6E191-1C80-42AD-AFF7-66D992D5A7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B50AF-CB2B-480C-81E6-FE6622E358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2593C-0E95-4DE0-AEB7-2A7AC7D6A2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C0AF5-82FC-4829-968A-F3E9586828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ommand cre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CAD0D-4DAD-41B5-8FD5-9E445381F6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ED447-CE10-4AB8-8DAD-A9416F33D9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D62E5-3A7A-417B-8F7C-90969D03AC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046A5-DDA6-40DF-A8E9-8D1D79E03F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62A6D-CD81-475B-918D-B54150D5A1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waits for who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close file descripto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1B5E3-5A6C-49DC-8645-8AE20F2B9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9A215-4873-43BE-A7B0-234DBC816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2437F-8BC2-4C67-86C9-C0B25F827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4ED50-E87B-413E-87B5-6EB5C552E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21913-2B0B-4E61-B03D-7ADF10EED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A382C-F7C5-4C73-A563-91E8CE836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BB7E4-6D7C-48B8-928D-E6165709D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DD9A5-8255-4E97-99E8-2954284D8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85AE0-5549-4782-8F25-4EFE6B994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E11A9-FAA5-492A-8048-48DA75867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0F92C-348B-4F6A-A133-F90640709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B15B6-4185-4A81-A279-BADAFEA82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D48BB-8F36-428F-ADBA-1BFB65FC0F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 abstr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/25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 abstractions and id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es (fork &amp; exec &amp; wai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s (open, create, read, write, clo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 descriptor (dup, .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 (pip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a number of OS ide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olation between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rdination/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our job: implement abstractions and understand id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will you know at the en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 OS abstractions in det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l x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C plat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 programming 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x ab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ience with building system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ndle complexity, concurrency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ve fu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a code-based OS clas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rating systems can be misleadingly si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ean simple abstractions, easily understandable in iso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xity is in how their implementations 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rn by doing, focus on inter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 hardware interrupts interact with kernel and user-level process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use locks to coordinate different activiti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lecture: OS ab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lustrated by an shell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: sh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active command interpr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face (“the shell”) to the operating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 of shell comman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create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ls &gt; tmp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write output to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sh &lt; script &gt; tmp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run sh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sort tmp | uniq | w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process communicate with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i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compute-pi &amp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run program in backg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0" y="6095880"/>
            <a:ext cx="929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S ideas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sol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ncurrenc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mmunication, 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ell 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f(“$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command(command, arg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d = fork();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new process;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(pid == 0) {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chil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ec (command, args, 0);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un 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else if (pid &gt; 0) {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par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 = wait (0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wait until child is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ror(“Failed to fork\n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put/Output (I/O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 through file descrip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e descriptor may be for a file, terminal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call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(fd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(fd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n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: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: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: e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ild inherits open file descriptors from par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5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/O redir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“ls &gt; tmp1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ify sh to insert before exe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se(1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elease fd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d = create(“tmp1”, 0666);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fd will b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modifications to “ls”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” could be writing to file, terminal, etc., but programmer of “ls” doesn’t need to kn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pe: one-way 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fdarray[2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 buf[512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pe(fdarray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eturns 2 fd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(fdarray[1], “hello”, 5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(fdarray[0]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f contains ‘h’, ‘e’, ‘l’, ‘l’, ‘o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pe between parent &amp; chi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fdarray[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 buf[51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n, pi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pe(fdarray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d = fork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(pid &gt; 0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(fdarray[1], "hello", 5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= read(fdarray[0], buf, sizeof(buf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ynchroniz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ween parent and chi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blocks until there is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es the shell implement “a | b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ing shell pipel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darray[2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ip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fdarray) &lt; 0)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ani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"error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(pid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or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)) == 0) {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hild (left end of pi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1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p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fdarray[1] is the write end, tmp will be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read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fdarray[1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mmand1, args1,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 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pid &gt; 0) { 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parent (right end of pi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p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fdarray[0] is the read end, tmp will be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write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mmand2, args2,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f ("Unable to fork\n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9-03T12:27:11Z</dcterms:modified>
  <cp:revision>69</cp:revision>
  <dc:subject/>
  <dc:title>Labs</dc:title>
</cp:coreProperties>
</file>