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1064D-0895-43DF-A5FB-3BE7E8E91C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35F03-07C7-46B7-AE7D-280238E6B7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D1D5C-97AB-415A-8C87-4C62366216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64354-7903-4946-8767-4EA6034157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ED01C-55C6-4724-8F8F-506879B907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1F05C-3B79-498B-99CE-0ABF71F0DE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69D4C-9509-47EC-B455-A91DB7C8DA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ommand cre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7F540-F012-4A77-938B-BD95EE9A7D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2C47F-C09D-444E-A435-32A006A60B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61D89-7B9D-4A0E-8A96-4F24EE8B2F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61044-AE29-4996-BD03-11953AF79D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15941-A547-4916-AB35-FD00AD4260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its for wh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lose file descrip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9653-F360-4F4E-9F37-9BC8AE4C7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3529-7DA4-4C10-B7B2-CC96118DB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EF7B-D70F-48A9-8BE8-507838952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A609-38AA-49A5-B9BD-8A29AAF62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8C69-137E-4DD4-9454-5E1CC2C34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1593-0793-42C2-8285-6AD8FEE1B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2CE2-A2C5-4523-A166-2F1E2A53D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0AE8-764F-40E8-B6D5-437F46A1D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205D-3AD8-45A0-AB34-F151A0EA3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23D7-E59E-4AC1-96D5-A492F2BD2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1BCA-B31F-4052-AB72-509A90E22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3E39-416A-46D6-A443-7457D1660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12350-F54F-4C34-BFA5-61C07F4579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/25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 and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es (fork &amp; exec &amp; wa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s (open, create, read, write, clo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descriptor (dup, 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(pip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a number of OS ide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ion betwee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on/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our job: implement abstractions and understand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ill you know at the e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OS abstractions in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l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C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 programming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x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e with building system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 complexity, concurrency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e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a code-based OS cla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ng systems can be misleadingly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 simple abstractions, easily understandable in iso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ity is in how their implementations 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by doing, focus on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hardware interrupts interact with kernel and user-level proces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use locks to coordinate different activi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lecture: OS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ustrated by an shell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: sh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command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 (“the shell”) to the operat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shell comma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create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write output to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h &lt; script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sh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ort tmp | uniq | w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process communicate with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i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compute-pi &am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program in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0" y="6095880"/>
            <a:ext cx="92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idea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o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munication, 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ll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“$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command(command, arg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d = fork();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new process;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pid == 0) {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chi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 (command, args, 0);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un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if (pid &gt; 0) {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par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wait (0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wait until child is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ror(“Failed to fork\n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put/Output (I/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 through file descri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descriptor may be for a file, terminal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call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: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: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: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 inherits open file descriptors from 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5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/O redir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“ls &gt; tmp1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 sh to insert before exe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(1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lease f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d = create(“tmp1”, 0666);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fd will b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odifications to “ls”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” could be writing to file, terminal, etc., but programmer of “ls” doesn’t need to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: one-way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(fdarray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turns 2 fd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array[1], “hello”, 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array[0]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 contains ‘h’, ‘e’, ‘l’, ‘l’, ‘o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 between parent &amp; ch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n, pi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pe(fdarra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d = for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(pid &gt; 0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(fdarray[1], "hello", 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read(fdarray[0], buf, sizeof(buf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ynchroniz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parent and ch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blocks until there i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shell implement “a | b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ing shell pip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darray[2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i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darray) &lt; 0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n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"error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(pid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)) == 0) {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hild (lef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1] is the write end, tmp will b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read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fdarray[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1, args1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id &gt; 0) {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parent (righ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0] is the read end, tmp will be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write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2, args2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f ("Unable to fork\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9-03T12:27:11Z</dcterms:modified>
  <cp:revision>69</cp:revision>
  <dc:subject/>
  <dc:title>Labs</dc:title>
</cp:coreProperties>
</file>