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D265F-FE7C-4871-8EA3-9F2B493729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5BB28-D4AF-497D-93DA-93340F1097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D5981-8DF5-4AE0-9112-7DCEB511DF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F0BCE-C763-4604-A178-AD9F162953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C0321-5D8C-4D3A-A9E2-5EF2B54464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0B0FC-711B-4390-8ECF-6CFF9DAE75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1B845-083C-4BEF-9062-139F9588C1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ommand cre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14DF1-CD1A-4A4B-BD3C-FAB7267B7C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61525-3515-4DD2-9D43-E3BF3D5202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4EC05-6EB6-418B-AA3D-2589682C9D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486D4-F858-4A9A-B392-EF1B7D1F23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E2CCF-A572-43F6-B0D6-09A8B81A6A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its for wh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lose file descrip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0721-00AA-4796-8A7C-5D4A38851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B9C0-4FF3-4614-AA56-6B492ABD5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60DA-AC44-4CE6-A391-73095A22B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D18B-A52D-472D-8FA2-C39FFDD23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BFB0-8768-4FB8-B33E-CC18024F9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F4AC-C7CF-449C-977C-607F362AB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9B40-2BE4-41A1-8828-D96379D54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E507-76E6-4A14-AD8B-E6E50F79E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F409-C9A9-427D-B47A-3A9875143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21F7-C5E4-4B17-8FB4-9C71D834B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A0CA-E148-4A90-A14C-D52A0B6CC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571D-4AD6-4601-81E3-E20686011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13E86-D85A-4A88-93F6-48AAE0B9AE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/25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 and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es (fork &amp; exec &amp; wa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s (open, create, read, write, clo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descriptor (dup, 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(pip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a number of OS ide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ion betwee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on/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our job: implement abstractions and understand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ill you know at the e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OS abstractions in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l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C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 programming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x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e with building system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 complexity, concurrency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e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a code-based OS cla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ng systems can be misleadingly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 simple abstractions, easily understandable in iso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ity is in how their implementations 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by doing, focus on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hardware interrupts interact with kernel and user-level proces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use locks to coordinate different activi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lecture: OS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ustrated by an shell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: sh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command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 (“the shell”) to the operat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shell comma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create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write output to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h &lt; script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sh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ort tmp | uniq | w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process communicate with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i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compute-pi &am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program in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0" y="6095880"/>
            <a:ext cx="92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idea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o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munication, 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ll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“$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command(command, arg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d = fork();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new process;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pid == 0) {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chi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 (command, args, 0);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un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if (pid &gt; 0) {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par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wait (0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wait until child is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ror(“Failed to fork\n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put/Output (I/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 through file descri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descriptor may be for a file, terminal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call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: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: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: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 inherits open file descriptors from 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5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/O redir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“ls &gt; tmp1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 sh to insert before exe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(1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lease f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d = create(“tmp1”, 0666);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fd will b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odifications to “ls”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” could be writing to file, terminal, etc., but programmer of “ls” doesn’t need to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: one-way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(fdarray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turns 2 fd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array[1], “hello”, 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array[0]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 contains ‘h’, ‘e’, ‘l’, ‘l’, ‘o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 between parent &amp; ch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n, pi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pe(fdarra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d = for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(pid &gt; 0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(fdarray[1], "hello", 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read(fdarray[0], buf, sizeof(buf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ynchroniz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parent and ch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blocks until there i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shell implement “a | b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ing shell pip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darray[2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i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darray) &lt; 0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n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"error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(pid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)) == 0) {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hild (lef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1] is the write end, tmp will b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read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fdarray[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1, args1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id &gt; 0) {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parent (righ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0] is the read end, tmp will be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write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2, args2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f ("Unable to fork\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9-03T12:27:11Z</dcterms:modified>
  <cp:revision>69</cp:revision>
  <dc:subject/>
  <dc:title>Labs</dc:title>
</cp:coreProperties>
</file>