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.png" ContentType="image/png"/>
  <Override PartName="/ppt/media/image2.png" ContentType="image/png"/>
  <Override PartName="/ppt/media/image14.pct" ContentType="image/x-pict"/>
  <Override PartName="/ppt/media/image3.png" ContentType="image/png"/>
  <Override PartName="/ppt/media/image15.pct" ContentType="image/x-pict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690FC-F6CE-4409-AB4F-4F037FB9A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790DB-D7D6-4330-941E-ADA5AA20B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73790-1CA0-45CA-A996-B2F28B2CE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082A8-3CA3-464C-A560-90BC45066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BF045-E8A6-41DD-876E-3D69389CA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AD6C1-3190-4551-B907-4969CBE8E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2D1D9-5765-46EB-8D22-1C94A077C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FEC49-A0F6-4CA8-9E41-C0427BC29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5C049-FFCD-4CCB-8481-DDB054B32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BF386-2CFB-4AD2-AA69-13DE677C7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2556A-C102-465F-9E36-E20DD80F6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BD956-AB50-49E8-97A2-D105A63C7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F24F9-E47F-41D3-AC11-94DE368849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segmentation, page tables, and interrup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17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is a kernel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560" y="4723920"/>
            <a:ext cx="830556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de running in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usted program: e.g., sets page-map, U/K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forces modula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219320" y="3276720"/>
            <a:ext cx="678168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066680" y="2438280"/>
            <a:ext cx="35816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1828800"/>
            <a:ext cx="35816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800600" y="2438280"/>
            <a:ext cx="3124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00600" y="1828800"/>
            <a:ext cx="3124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7" name=""/>
          <p:cNvCxnSpPr/>
          <p:nvPr/>
        </p:nvCxnSpPr>
        <p:spPr>
          <a:xfrm>
            <a:off x="457200" y="3123720"/>
            <a:ext cx="823032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148" name=""/>
          <p:cNvSpPr/>
          <p:nvPr/>
        </p:nvSpPr>
        <p:spPr>
          <a:xfrm>
            <a:off x="138240" y="3400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38600" y="2104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tering the kernel: system call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4724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al instru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itches U/K 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er kernel at kernel-specified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219320" y="3276720"/>
            <a:ext cx="678168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066680" y="2438280"/>
            <a:ext cx="35816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1828800"/>
            <a:ext cx="35816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800600" y="2438280"/>
            <a:ext cx="3124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1828800"/>
            <a:ext cx="3124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7" name=""/>
          <p:cNvCxnSpPr/>
          <p:nvPr/>
        </p:nvCxnSpPr>
        <p:spPr>
          <a:xfrm>
            <a:off x="457200" y="3123720"/>
            <a:ext cx="823032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158" name=""/>
          <p:cNvSpPr/>
          <p:nvPr/>
        </p:nvSpPr>
        <p:spPr>
          <a:xfrm>
            <a:off x="127080" y="2362320"/>
            <a:ext cx="787320" cy="1371600"/>
          </a:xfrm>
          <a:custGeom>
            <a:avLst/>
            <a:gdLst/>
            <a:ahLst/>
            <a:rect l="l" t="t" r="r" b="b"/>
            <a:pathLst>
              <a:path w="496" h="864">
                <a:moveTo>
                  <a:pt x="400" y="0"/>
                </a:moveTo>
                <a:cubicBezTo>
                  <a:pt x="200" y="168"/>
                  <a:pt x="0" y="336"/>
                  <a:pt x="16" y="480"/>
                </a:cubicBezTo>
                <a:cubicBezTo>
                  <a:pt x="32" y="624"/>
                  <a:pt x="264" y="744"/>
                  <a:pt x="496" y="86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153280" y="2590920"/>
            <a:ext cx="774720" cy="1143000"/>
          </a:xfrm>
          <a:custGeom>
            <a:avLst/>
            <a:gdLst/>
            <a:ahLst/>
            <a:rect l="l" t="t" r="r" b="b"/>
            <a:pathLst>
              <a:path w="488" h="720">
                <a:moveTo>
                  <a:pt x="48" y="720"/>
                </a:moveTo>
                <a:cubicBezTo>
                  <a:pt x="268" y="564"/>
                  <a:pt x="488" y="408"/>
                  <a:pt x="480" y="288"/>
                </a:cubicBezTo>
                <a:cubicBezTo>
                  <a:pt x="472" y="168"/>
                  <a:pt x="80" y="48"/>
                  <a:pt x="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38240" y="195264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8444160" y="347652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virtual address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4495680"/>
            <a:ext cx="79246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86 starts in real mode (no prote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registers (cs, ss, ds, 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* 16 + offset </a:t>
            </a:r>
            <a:r>
              <a:rPr b="0" lang="en-US" sz="24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can switch to protected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ation and pa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1989000"/>
            <a:ext cx="9144000" cy="20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ranslation with segmen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880" y="533376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DGT loads CPU’s G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 bit in CR0 register enables protected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s registers conta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863640" y="1708200"/>
            <a:ext cx="7416720" cy="34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egment descrip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4723920"/>
            <a:ext cx="7848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ear address = logical address + 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ert: logical address &lt;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 restricts what memory an application can re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89948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OS code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does EIP contain the address of “ljmp” instruction after “movl %eax, %cr0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990720" y="1676520"/>
            <a:ext cx="708660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forcing modularity in x86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28600" y="3123720"/>
            <a:ext cx="8686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L: current privileg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: privileged (kernel mod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: user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 programs can set segment sel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rnel can load value in CPL and GDT, but user programs cann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533520" y="1905120"/>
            <a:ext cx="7238880" cy="98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two-level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80880" y="541008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size is 4,096 by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,048,576 pages in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level structure to trans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1498680" y="1727280"/>
            <a:ext cx="6146640" cy="34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page table ent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560" y="3428640"/>
            <a:ext cx="84582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: writab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W = 0 and wr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: user mode references allow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U = 0 and user references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: pres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P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763120" cy="12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does the x86 do exactly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7048440" cy="49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forcing modularity with virt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rtualize processor and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86 mechanism for virt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 and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em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3000" y="36468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en does page table  take effect?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4190760"/>
            <a:ext cx="861048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G enables page-based trans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3 contains address of page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does the next instruction come fro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hanging PDE or PTE, you must flush TL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oad C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912080" cy="22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User mode to kernel mo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80880" y="5410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: IN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interru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dexes into interrupt descriptor table (ID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TR contains physical address of 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556400" cy="37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DT descrip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ways to get into kerne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sks (tr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(tr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29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happens on trap/interrupt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 uses vector n to index into 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cks that CPL ≤ D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s ESP and SS in internal regi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ads ESP and SS from T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S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FLA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ear some EFLAGS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CS and EIP from IDT descrip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rom kernel to us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RET instr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erse of 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ab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1: start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up and use seg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2: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kernel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3: user/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user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ID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8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alls and page fa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4: many user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6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emptive schedu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2209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OS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848360" y="1981080"/>
            <a:ext cx="609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2057400" y="309600"/>
            <a:ext cx="7086600" cy="65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95400"/>
            <a:ext cx="777240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call x86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80520" y="5909760"/>
            <a:ext cx="8458200" cy="5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find P for V OS can walk PT manu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685800" y="914400"/>
            <a:ext cx="7772400" cy="50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3160" y="-28800"/>
            <a:ext cx="83818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VPT: Mapping the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33520" y="5866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|Z maps to the page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|V maps to V’s page table e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228600" y="803160"/>
            <a:ext cx="7772400" cy="507996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3811680" y="14479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enforcing mod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switching processor between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giving each program its own virtual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86 support for enforcing mod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nd kernel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s and tr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560" y="237600"/>
            <a:ext cx="845820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ast lecture’s compu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5257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hold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pret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76520" y="243828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952880" y="182880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191120" y="3276720"/>
            <a:ext cx="761760" cy="144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183280" y="18669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183280" y="240984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202360" y="29289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655240" y="3919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640840" y="34290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40840" y="43434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043720" y="187632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953960" y="143820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Better view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5181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modularity reasons: many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switches processor(s) between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424160" y="228600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70052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38760" y="3124080"/>
            <a:ext cx="76176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17146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930200" y="22464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938120" y="27766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954320" y="38098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954320" y="32986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4320" y="42670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91360" y="17240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70160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blem: no boundari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5105160"/>
            <a:ext cx="8153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can modify other programs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jumps into other program’s cod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may get into an infinite loo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85680" y="1600200"/>
            <a:ext cx="5397480" cy="1041480"/>
          </a:xfrm>
          <a:prstGeom prst="rect">
            <a:avLst/>
          </a:prstGeom>
          <a:ln w="0">
            <a:noFill/>
          </a:ln>
        </p:spPr>
      </p:pic>
      <p:cxnSp>
        <p:nvCxnSpPr>
          <p:cNvPr id="74" name=""/>
          <p:cNvCxnSpPr/>
          <p:nvPr/>
        </p:nvCxnSpPr>
        <p:spPr>
          <a:xfrm>
            <a:off x="2285640" y="2361960"/>
            <a:ext cx="3158280" cy="648360"/>
          </a:xfrm>
          <a:prstGeom prst="bentConnector3">
            <a:avLst>
              <a:gd name="adj1" fmla="val 4996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" name=""/>
          <p:cNvSpPr/>
          <p:nvPr/>
        </p:nvSpPr>
        <p:spPr>
          <a:xfrm>
            <a:off x="7774200" y="43434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635600" y="16002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49576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726160" y="17146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725440" y="225756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744520" y="27766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725800" y="37339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725800" y="32767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725800" y="42670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49684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oal: enforcing modularit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 each program its private memory for code, stack, an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vent one program from getting out of its mem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ing sharing between programs when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ce programs to share process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olution approach: virtualiz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0" y="5486040"/>
            <a:ext cx="8763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ize memory: virtual address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ize processor: preemptive schedu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4406760" cy="8510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774200" y="48196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5600" y="207648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495760" y="215280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726160" y="219060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716080" y="327672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716080" y="43434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640120" y="365760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640120" y="26668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725800" y="474336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486400" y="320040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86400" y="426708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116600" y="1219320"/>
            <a:ext cx="126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22640" y="1066680"/>
            <a:ext cx="1398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183640" y="28400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663800" y="213372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663800" y="325296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107320" y="38098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587840" y="43434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031000" y="4876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47920" y="358128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26766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80920" y="4800600"/>
            <a:ext cx="264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133640" y="2971800"/>
            <a:ext cx="26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133720" y="4572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age map guides transl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49896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program has its own pag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82240" indent="-108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memory doesn’t have to be contigu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switching program, switch pag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maps stored in main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00400" y="274320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4038480" y="3733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514600" y="4191120"/>
            <a:ext cx="2971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1523880"/>
            <a:ext cx="4406760" cy="85104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/>
          <p:nvPr/>
        </p:nvCxnSpPr>
        <p:spPr>
          <a:xfrm>
            <a:off x="1960200" y="2209680"/>
            <a:ext cx="1220040" cy="9151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764280" y="4038480"/>
            <a:ext cx="158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-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248520" y="1752480"/>
            <a:ext cx="2057400" cy="3124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238880" y="4186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781680" y="426096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920280" y="4221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241040" y="4227480"/>
            <a:ext cx="89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xB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38480" y="441972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725520" y="3817800"/>
            <a:ext cx="124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1’s 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"/>
          <p:cNvCxnSpPr/>
          <p:nvPr/>
        </p:nvCxnSpPr>
        <p:spPr>
          <a:xfrm flipV="1">
            <a:off x="4952880" y="2056680"/>
            <a:ext cx="1372320" cy="1105560"/>
          </a:xfrm>
          <a:prstGeom prst="bentConnector3">
            <a:avLst>
              <a:gd name="adj1" fmla="val 49986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057400" y="1293840"/>
            <a:ext cx="4406760" cy="85104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7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tecting page maps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kernel and user mo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880" y="4856040"/>
            <a:ext cx="838224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mode: can change page-map register, U/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user mode: cann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or starts in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interrupts, processor switches to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105520" y="2438280"/>
            <a:ext cx="24382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 $val, %c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6324480" y="34290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6000" y="3886200"/>
            <a:ext cx="2971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/>
          <p:nvPr/>
        </p:nvCxnSpPr>
        <p:spPr>
          <a:xfrm>
            <a:off x="3885840" y="1905120"/>
            <a:ext cx="1220040" cy="9151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7" name=""/>
          <p:cNvSpPr/>
          <p:nvPr/>
        </p:nvSpPr>
        <p:spPr>
          <a:xfrm>
            <a:off x="4896000" y="38862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-map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133720" y="2971800"/>
            <a:ext cx="11430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/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309840" y="3200400"/>
            <a:ext cx="175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3-17T02:09:15Z</dcterms:modified>
  <cp:revision>184</cp:revision>
  <dc:subject/>
  <dc:title>Labs</dc:title>
</cp:coreProperties>
</file>