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ct" ContentType="image/x-pict"/>
  <Override PartName="/ppt/media/image4.png" ContentType="image/png"/>
  <Override PartName="/ppt/media/image2.pct" ContentType="image/x-pict"/>
  <Override PartName="/ppt/media/image5.png" ContentType="image/png"/>
  <Override PartName="/ppt/media/image10.png" ContentType="image/png"/>
  <Override PartName="/ppt/media/image3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48168-B37E-4EAB-8E53-7EBF104306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 ideas: data can be instructions, stack, hardware == softw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PU, address and data signals, memory, disk, keyboard, display, BIOS ROM, clock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57122-21FA-4E9F-87BB-F4C9F13CD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E2B35-F84C-48F2-9962-A7E251860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F9E45-5A4C-46B1-A30C-98029AE20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CEDA2-B5D3-4C7A-9820-B786E29EA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25A80-07BF-4108-82D3-1979B0D14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0AEE4-7F98-41CC-B3A7-8536A2B09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17E65-DC40-45A2-AB9B-539AEF1CC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5F643-BD26-4127-8DBC-092488742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04A84-D9A6-408B-B9ED-B388CA7FC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06650-3478-4404-A071-25E92C0D5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1167A-924C-44DF-B461-059C4A879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2D470-1C49-4161-AE02-4E5748DF8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AAF28-B735-4170-A93A-2226215989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C hardware and x86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/3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: more work spac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520" y="51051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 instructions: MOV, PUSH, POP,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instructions can take a memory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9144000" cy="21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tack memory + opera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52578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ck grows d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to implement procedure c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371600" y="1752480"/>
            <a:ext cx="622296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ore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86 16 registers and 20-bit bus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xtra 4 bits com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egment regis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S: code segment, for E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S: stack segment, for SP and B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S: data segment for load/store via othe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: another data segment, destination for string o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xample: CS=4096 to start executing at 655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s life more complic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not use 16 bit address of stack variable as poi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inter arithmetic and array indexing across segment bounda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a far pointer programmer must include segment re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nd more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386: 32 bit data and bus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: the transition to 64 bit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kwards compatibil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ots in 16-bit mode, and boot.S switches to 32-bit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fix 0x66 gets you 32 bit m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VW = 0x66 MOV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code32 in boot.S tells assembler to insert 0x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386 also added virtual memory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pic of lab lecture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I/O space and instruc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5867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86: Only 1024 I/O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rupts in lab 3 l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380880" y="1133640"/>
            <a:ext cx="7391520" cy="47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-mapped I/O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normal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need for special in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1024 lim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controller routes to de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s like “magic”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ed and accessed like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does not behave like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s and writes have “side effect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result can change due to external ev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 layou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967040" y="933480"/>
            <a:ext cx="5816520" cy="58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instruction se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ions class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movement: MOV, PUSH, POP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ithmetic: TEST, SHL, ADD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/O: IN, OUT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: JMP, JZ, JNZ, CALL, R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ing: REP, MOVSB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: IRET, INT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l architecture manual Volume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l syntax: op dst, sr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&amp;T (gcc/gas) syntax: op src, d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cc procedure calling conven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CALL instr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ip points to first in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+ 4 points at first argu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points at return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RET instr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ip contains return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points at arguments pushed by cal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ax contains return value, %ecx, %edx may be tras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bp, %ebx, %esi, %edi must be as before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86400" y="2971800"/>
            <a:ext cx="2362320" cy="1219320"/>
          </a:xfrm>
          <a:prstGeom prst="wedgeRectCallout">
            <a:avLst>
              <a:gd name="adj1" fmla="val -243009"/>
              <a:gd name="adj2" fmla="val 10156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ll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a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343400" y="5791320"/>
            <a:ext cx="2133720" cy="1066680"/>
          </a:xfrm>
          <a:prstGeom prst="wedgeRectCallout">
            <a:avLst>
              <a:gd name="adj1" fmla="val -209745"/>
              <a:gd name="adj2" fmla="val -6964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lle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a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cc does more: EBP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1920" y="1295280"/>
            <a:ext cx="9082080" cy="4330800"/>
          </a:xfrm>
          <a:prstGeom prst="rect">
            <a:avLst/>
          </a:prstGeom>
          <a:ln w="0">
            <a:noFill/>
          </a:ln>
        </p:spPr>
      </p:pic>
      <p:grpSp>
        <p:nvGrpSpPr>
          <p:cNvPr id="123" name=""/>
          <p:cNvGrpSpPr/>
          <p:nvPr/>
        </p:nvGrpSpPr>
        <p:grpSpPr>
          <a:xfrm>
            <a:off x="3429000" y="990720"/>
            <a:ext cx="2743200" cy="1209240"/>
            <a:chOff x="3429000" y="990720"/>
            <a:chExt cx="2743200" cy="1209240"/>
          </a:xfrm>
        </p:grpSpPr>
        <p:sp>
          <p:nvSpPr>
            <p:cNvPr id="124" name=""/>
            <p:cNvSpPr/>
            <p:nvPr/>
          </p:nvSpPr>
          <p:spPr>
            <a:xfrm>
              <a:off x="3429000" y="990720"/>
              <a:ext cx="2743200" cy="1209240"/>
            </a:xfrm>
            <a:prstGeom prst="wedgeRectCallout">
              <a:avLst>
                <a:gd name="adj1" fmla="val -41837"/>
                <a:gd name="adj2" fmla="val 153958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430800" y="990720"/>
              <a:ext cx="2620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rologu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ushl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ovl %esp,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4419720" y="3581280"/>
            <a:ext cx="2971800" cy="1371240"/>
            <a:chOff x="4419720" y="3581280"/>
            <a:chExt cx="2971800" cy="1371240"/>
          </a:xfrm>
        </p:grpSpPr>
        <p:sp>
          <p:nvSpPr>
            <p:cNvPr id="127" name=""/>
            <p:cNvSpPr/>
            <p:nvPr/>
          </p:nvSpPr>
          <p:spPr>
            <a:xfrm>
              <a:off x="4419720" y="3581280"/>
              <a:ext cx="2971800" cy="1371240"/>
            </a:xfrm>
            <a:prstGeom prst="wedgeRectCallout">
              <a:avLst>
                <a:gd name="adj1" fmla="val -75425"/>
                <a:gd name="adj2" fmla="val -5977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497480" y="3686760"/>
              <a:ext cx="2620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Epilogu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ovl %ebp, %es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opl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974880" y="6143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2120" y="586728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ved %ebp’s form a chain, can walk st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guments and locals at fixed offsets from EB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 PC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286000" y="1219320"/>
            <a:ext cx="4267080" cy="4167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600200" y="594360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make it to do something usefu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914040"/>
            <a:ext cx="3353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940280" y="0"/>
            <a:ext cx="4203720" cy="68580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0" y="2666880"/>
            <a:ext cx="5029200" cy="13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rom C to running program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5409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iler, assembler, linker, and loa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62520" y="160020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163044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968480" y="162576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a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990720" y="2286000"/>
            <a:ext cx="9903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895480" y="2286000"/>
            <a:ext cx="9907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205280" y="1724040"/>
            <a:ext cx="65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c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110760" y="1724040"/>
            <a:ext cx="67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0" y="3352680"/>
            <a:ext cx="4876560" cy="1325520"/>
            <a:chOff x="0" y="3352680"/>
            <a:chExt cx="4876560" cy="1325520"/>
          </a:xfrm>
        </p:grpSpPr>
        <p:sp>
          <p:nvSpPr>
            <p:cNvPr id="144" name=""/>
            <p:cNvSpPr/>
            <p:nvPr/>
          </p:nvSpPr>
          <p:spPr>
            <a:xfrm>
              <a:off x="3962160" y="3352680"/>
              <a:ext cx="914400" cy="129528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0" y="3382560"/>
              <a:ext cx="914400" cy="129564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968480" y="3377880"/>
              <a:ext cx="914400" cy="129564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as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990360" y="4038480"/>
              <a:ext cx="990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895480" y="4038480"/>
              <a:ext cx="990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204920" y="3476520"/>
              <a:ext cx="654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c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110400" y="3476520"/>
              <a:ext cx="671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5765760" y="2438280"/>
            <a:ext cx="914400" cy="12956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952880" y="2362320"/>
            <a:ext cx="685800" cy="5331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4952880" y="3428640"/>
            <a:ext cx="68580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335920" y="2971800"/>
            <a:ext cx="41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705720" y="3048120"/>
            <a:ext cx="10666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708240" y="2514600"/>
            <a:ext cx="102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a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860600" y="2819520"/>
            <a:ext cx="128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Development using PC emula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chs PC emul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 what a real PC do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implemented in softwar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ns like a normal program on “host” operating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181480" y="3809880"/>
            <a:ext cx="342900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 e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181480" y="457200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181480" y="533412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181480" y="304812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of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371600" y="1828800"/>
            <a:ext cx="4699080" cy="298440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1600200" y="4952880"/>
            <a:ext cx="544824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of CPU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8686800" cy="47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x86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228600" y="1828800"/>
            <a:ext cx="8534520" cy="38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ng devic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rd disk: using a file of the h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GA display: draw in a host wind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board: hosts’s keyboard AP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ock chip: host’s cl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lab: PC and x8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llustrate several big ide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ored program compu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-mapped I/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ftware = hard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514600"/>
            <a:ext cx="46483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C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86 instruction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cc calling conven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C em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257800" y="2743200"/>
            <a:ext cx="3429000" cy="2133720"/>
          </a:xfrm>
          <a:prstGeom prst="leftArrowCallout">
            <a:avLst>
              <a:gd name="adj1" fmla="val 25002"/>
              <a:gd name="adj2" fmla="val 25000"/>
              <a:gd name="adj3" fmla="val 26784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llustrate a few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CS id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C board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38080" y="1303200"/>
            <a:ext cx="7391520" cy="55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e von Neumann model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4724280"/>
            <a:ext cx="792504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/O: communicating data to and from de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PU: digital logic for performing compu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: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ords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05320" y="2133720"/>
            <a:ext cx="2057400" cy="16002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2362320"/>
            <a:ext cx="1904760" cy="1218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put/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324480" y="2133720"/>
            <a:ext cx="2057400" cy="160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562720" y="2895480"/>
            <a:ext cx="76176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666880" y="2971800"/>
            <a:ext cx="76212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237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e stored program compu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5257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ory hold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U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terpret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228600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73392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971800" y="3124080"/>
            <a:ext cx="762120" cy="180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64320" y="171468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64320" y="22575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83400" y="277668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35920" y="37670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431240" y="33526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421520" y="419112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824760" y="172404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73500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implement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0" y="533376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P is incremented after each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s are different leng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P modified by CALL, RET, JMP, and conditional J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5519880" y="2104920"/>
            <a:ext cx="2057400" cy="3124440"/>
            <a:chOff x="5519880" y="2104920"/>
            <a:chExt cx="2057400" cy="3124440"/>
          </a:xfrm>
        </p:grpSpPr>
        <p:sp>
          <p:nvSpPr>
            <p:cNvPr id="81" name=""/>
            <p:cNvSpPr/>
            <p:nvPr/>
          </p:nvSpPr>
          <p:spPr>
            <a:xfrm>
              <a:off x="5519880" y="2104920"/>
              <a:ext cx="2057400" cy="31244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750280" y="214308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50280" y="268596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769360" y="320508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221880" y="419580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217200" y="37814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207480" y="461952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5397480" cy="1041480"/>
          </a:xfrm>
          <a:prstGeom prst="rect">
            <a:avLst/>
          </a:prstGeom>
          <a:ln w="0">
            <a:noFill/>
          </a:ln>
        </p:spPr>
      </p:pic>
      <p:cxnSp>
        <p:nvCxnSpPr>
          <p:cNvPr id="89" name=""/>
          <p:cNvCxnSpPr/>
          <p:nvPr/>
        </p:nvCxnSpPr>
        <p:spPr>
          <a:xfrm>
            <a:off x="2285640" y="2361960"/>
            <a:ext cx="3158280" cy="648360"/>
          </a:xfrm>
          <a:prstGeom prst="bentConnector3">
            <a:avLst>
              <a:gd name="adj1" fmla="val 4996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0" name=""/>
          <p:cNvSpPr/>
          <p:nvPr/>
        </p:nvSpPr>
        <p:spPr>
          <a:xfrm>
            <a:off x="7698240" y="4724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35600" y="20574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egisters for work spac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600" y="4876920"/>
            <a:ext cx="86104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16, and 32 bit vers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convention some registers for special purpo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ADD EAX,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instructions: SUB, AND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304920" y="838080"/>
            <a:ext cx="8026200" cy="398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FLAGS regis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5866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st instructions: TEST EAX,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itional JMP instructions: JNZ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314360" y="1104840"/>
            <a:ext cx="651528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3-03T03:10:17Z</dcterms:modified>
  <cp:revision>112</cp:revision>
  <dc:subject/>
  <dc:title>Labs</dc:title>
</cp:coreProperties>
</file>