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B6ADB-230B-4AE5-A759-BDE7B51348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AC4E9-CF40-4695-AF41-6D478346FA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B6EC2-7782-440E-BFAC-2A01B36181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EDAD1-011D-4C3C-8DF4-8E5FB1B5B3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C9908-3BEA-40D8-8EF0-FF48163F29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97B40-4BC4-47D3-A5F7-03D14454F8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26B9A-B42C-4E2F-92CC-06B939528A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ommand cre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C7286-FB8D-48A8-8022-065D4B3CF9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683FE-E6AD-4B66-9D32-965D65BB79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F8704-B279-4437-88AB-29729ADCB6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146FA-AADA-4CCF-AC71-C44B8C59DC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9D291-FB24-41DE-BFD0-9FC802B67D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waits for who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close file descripto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120A1-3BDF-4337-B12A-2007DF517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53238-F770-4B67-810C-C9009EED2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4F14E-D3AD-4F60-9615-76EBF3C12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310CF-9D49-41DB-9E6E-B3F04D169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01511-2577-4F23-BC08-71C1CEB14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EA67F-8C04-4DF9-8D1E-098BE74EC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A6823-210A-4E14-BEF8-B32AB7484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46D5A-B4AF-4C53-8251-2E9E25C6D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4C251-9B15-4C96-8F40-CE34AA511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29644-5F93-4522-800B-708C8C493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EBF9F-A119-415C-A1DD-A9A7E2019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AA209-1488-48D6-9D38-2DC9D9532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29B22-3D94-4CD2-A6FE-636C8DDCC4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 abstr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/25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 abstractions and id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es (fork &amp; exec &amp; wai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s (open, create, read, write, clo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 descriptor (dup, .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 (pip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a number of OS ide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olation between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rdination/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our job: implement abstractions and understand id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will you know at the en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 OS abstractions in det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l x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C plat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 programming 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x ab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ience with building system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ndle complexity, concurrency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ve fu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a code-based OS clas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rating systems can be misleadingly si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ean simple abstractions, easily understandable in iso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xity is in how their implementations 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rn by doing, focus on inter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 hardware interrupts interact with kernel and user-level process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use locks to coordinate different activiti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lecture: OS ab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lustrated by an shell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: sh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active command interpr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face (“the shell”) to the operating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 of shell comman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create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ls &gt; tmp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write output to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sh &lt; script &gt; tmp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run sh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sort tmp | uniq | w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process communicate with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i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compute-pi &amp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run program in backg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0" y="6095880"/>
            <a:ext cx="929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S ideas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sol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ncurrenc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mmunication, 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ell 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f(“$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command(command, arg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d = fork();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new process;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(pid == 0) {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chil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ec (command, args, 0);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un 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else if (pid &gt; 0) {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par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 = wait (0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wait until child is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ror(“Failed to fork\n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put/Output (I/O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 through file descrip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e descriptor may be for a file, terminal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call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(fd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(fd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n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: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: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: e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ild inherits open file descriptors from par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5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/O redir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“ls &gt; tmp1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ify sh to insert before exe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se(1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elease fd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d = create(“tmp1”, 0666);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fd will b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modifications to “ls”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” could be writing to file, terminal, etc., but programmer of “ls” doesn’t need to kn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pe: one-way 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fdarray[2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 buf[512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pe(fdarray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eturns 2 fd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(fdarray[1], “hello”, 5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(fdarray[0]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f contains ‘h’, ‘e’, ‘l’, ‘l’, ‘o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pe between parent &amp; chi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fdarray[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 buf[51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n, pi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pe(fdarray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d = fork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(pid &gt; 0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(fdarray[1], "hello", 5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= read(fdarray[0], buf, sizeof(buf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ynchroniz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ween parent and chi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blocks until there is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es the shell implement “a | b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ing shell pipel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darray[2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ip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fdarray) &lt; 0)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ani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"error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(pid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or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)) == 0) {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hild (left end of pi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1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p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fdarray[1] is the write end, tmp will be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read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fdarray[1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mmand1, args1,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 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pid &gt; 0) { 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parent (right end of pi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p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fdarray[0] is the read end, tmp will be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write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mmand2, args2,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f ("Unable to fork\n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9-03T12:27:11Z</dcterms:modified>
  <cp:revision>69</cp:revision>
  <dc:subject/>
  <dc:title>Labs</dc:title>
</cp:coreProperties>
</file>